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AF3-9133-48B4-A273-979CD33A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470-943F-4AB4-993E-7983ADD1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BA6-A3F9-494E-B1DE-E28177A7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E18-FEB1-4047-A23C-B7473813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305E-25B8-4C59-80F0-D015EC05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0ABD-731E-4925-8783-02D4B305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EC23-32C0-417D-9100-7BE0B7B6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C6F9-A3DD-469B-8120-0E727946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F27A-9656-41D7-A4EC-457675D9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B553-27E4-4E7A-ADCD-ACE1A94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6E1D-F705-403B-8F98-C465E45C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9A0-F9CA-4AAF-BFCB-5A4531CC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93EE-2736-42F9-AAB1-21C31D6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6702-4388-470B-BA62-7391399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6A4B-7F70-4E05-92B7-C769D34B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3E86-8C32-45DE-8B7B-7F2D674B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BD4D-C0E1-4A19-A1B5-31246B68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FB6-CFFC-43A8-9F25-4F9173A2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EB4-A35C-41C5-A8D5-7A9071FB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387-503F-4913-A10F-CBF5340B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883-4BE9-47DE-AEBB-E76FCF5C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B17-B517-4B32-B110-48CFCABA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D0F-819B-4689-98E3-D0B01E4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97D-AA04-4991-ABD8-1CCC8AFF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3FA0-B61D-406A-8BE2-DA925FB1C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2907-26E8-4BDB-A5C3-3A160BBBD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655452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cc66"/>
                </a:solidFill>
                <a:latin typeface="CommercialScript BT"/>
              </a:rPr>
              <a:t>“</a:t>
            </a:r>
            <a:r>
              <a:rPr b="0" lang="en-US" sz="5600" spc="-1" strike="noStrike">
                <a:solidFill>
                  <a:srgbClr val="ffcc66"/>
                </a:solidFill>
                <a:latin typeface="CommercialScript BT"/>
              </a:rPr>
              <a:t>Le Beatitudini”</a:t>
            </a:r>
            <a:endParaRPr b="0" lang="en-US" sz="5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343040" y="289548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mercialScript BT"/>
              </a:rPr>
              <a:t>Dal Vangelo di Matteo 5,3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bucaneve" descr=""/>
          <p:cNvPicPr/>
          <p:nvPr/>
        </p:nvPicPr>
        <p:blipFill>
          <a:blip r:embed="rId1"/>
          <a:stretch/>
        </p:blipFill>
        <p:spPr>
          <a:xfrm>
            <a:off x="1420920" y="3657600"/>
            <a:ext cx="2425680" cy="28195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</p:spTree>
  </p:cSld>
  <p:transition spd="slow" advTm="8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7320" y="685800"/>
            <a:ext cx="83977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e7ff"/>
                </a:solidFill>
                <a:latin typeface="CommercialScript BT"/>
              </a:rPr>
              <a:t>Beati voi quando vi insulteranno, vi perseguiteranno e, mentendo,</a:t>
            </a:r>
            <a:br>
              <a:rPr sz="4300"/>
            </a:br>
            <a:r>
              <a:rPr b="0" lang="en-US" sz="4300" spc="-1" strike="noStrike">
                <a:solidFill>
                  <a:srgbClr val="ffe7ff"/>
                </a:solidFill>
                <a:latin typeface="CommercialScript BT"/>
              </a:rPr>
              <a:t>diranno ogni sorta di male contro di voi per causa mia,</a:t>
            </a:r>
            <a:endParaRPr b="0" lang="en-US" sz="4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388584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200" spc="-1" strike="noStrike">
              <a:solidFill>
                <a:srgbClr val="ff7c80"/>
              </a:solidFill>
              <a:latin typeface="CommercialScript BT"/>
            </a:endParaRPr>
          </a:p>
        </p:txBody>
      </p:sp>
      <p:pic>
        <p:nvPicPr>
          <p:cNvPr id="117" name="la%20messa%204" descr=""/>
          <p:cNvPicPr/>
          <p:nvPr/>
        </p:nvPicPr>
        <p:blipFill>
          <a:blip r:embed="rId1">
            <a:grayscl/>
          </a:blip>
          <a:srcRect l="4891" t="0" r="0" b="2812"/>
          <a:stretch/>
        </p:blipFill>
        <p:spPr>
          <a:xfrm>
            <a:off x="5132520" y="3581280"/>
            <a:ext cx="1992240" cy="2867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14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99920" y="91440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66ff"/>
                </a:solidFill>
                <a:latin typeface="CommercialScript BT"/>
              </a:rPr>
              <a:t>Rallegratevi ed esultate perché grande è la vostra ricompensa nei cieli.</a:t>
            </a:r>
            <a:endParaRPr b="0" lang="en-US" sz="4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388584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200" spc="-1" strike="noStrike">
              <a:solidFill>
                <a:srgbClr val="ff7c80"/>
              </a:solidFill>
              <a:latin typeface="CommercialScript BT"/>
            </a:endParaRPr>
          </a:p>
        </p:txBody>
      </p:sp>
      <p:pic>
        <p:nvPicPr>
          <p:cNvPr id="120" name="ascolto" descr=""/>
          <p:cNvPicPr/>
          <p:nvPr/>
        </p:nvPicPr>
        <p:blipFill>
          <a:blip r:embed="rId1"/>
          <a:stretch/>
        </p:blipFill>
        <p:spPr>
          <a:xfrm>
            <a:off x="2376360" y="3200400"/>
            <a:ext cx="4389480" cy="2882880"/>
          </a:xfrm>
          <a:prstGeom prst="rect">
            <a:avLst/>
          </a:prstGeom>
          <a:ln w="9360">
            <a:solidFill>
              <a:srgbClr val="ff66ff"/>
            </a:solidFill>
            <a:miter/>
          </a:ln>
        </p:spPr>
      </p:pic>
    </p:spTree>
  </p:cSld>
  <p:transition advTm="14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ommercialScript BT"/>
              </a:rPr>
              <a:t>Beati i poveri in spirito,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1080" y="449568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mercialScript BT"/>
              </a:rPr>
              <a:t>perché di essi è il regno dei cie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reghiera" descr=""/>
          <p:cNvPicPr/>
          <p:nvPr/>
        </p:nvPicPr>
        <p:blipFill>
          <a:blip r:embed="rId1"/>
          <a:srcRect l="0" t="812" r="0" b="812"/>
          <a:stretch/>
        </p:blipFill>
        <p:spPr>
          <a:xfrm>
            <a:off x="3751200" y="2438280"/>
            <a:ext cx="1639800" cy="19814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p:transition spd="slow" advTm="8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512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CommercialScript BT"/>
              </a:rPr>
              <a:t>Beati gli afflitti,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0040" y="4647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CommercialScript BT"/>
              </a:rPr>
              <a:t>perché saranno consola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mozambico2004_005__centro_salute_Nampula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1886040" cy="251460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</p:spTree>
  </p:cSld>
  <p:transition spd="slow" advTm="8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066320"/>
            <a:ext cx="3124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mmercialScript BT"/>
              </a:rPr>
              <a:t>Beati i miti,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520" y="472392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mercialScript BT"/>
              </a:rPr>
              <a:t>perché erediteranno la ter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3%20°%20mondo%200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1970280" cy="2344680"/>
          </a:xfrm>
          <a:prstGeom prst="rect">
            <a:avLst/>
          </a:prstGeom>
          <a:ln w="9360">
            <a:solidFill>
              <a:srgbClr val="ff66ff"/>
            </a:solidFill>
            <a:miter/>
          </a:ln>
        </p:spPr>
      </p:pic>
    </p:spTree>
  </p:cSld>
  <p:transition spd="slow" advTm="8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565452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CommercialScript BT"/>
              </a:rPr>
              <a:t>Beati quelli che hanno fame e sete della giustizia,</a:t>
            </a:r>
            <a:endParaRPr b="0" lang="en-US" sz="4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81280" y="5105520"/>
            <a:ext cx="3810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CommercialScript BT"/>
              </a:rPr>
              <a:t>Perché saranno sazia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Rwanda%202" descr=""/>
          <p:cNvPicPr/>
          <p:nvPr/>
        </p:nvPicPr>
        <p:blipFill>
          <a:blip r:embed="rId1"/>
          <a:srcRect l="0" t="0" r="2754" b="4921"/>
          <a:stretch/>
        </p:blipFill>
        <p:spPr>
          <a:xfrm>
            <a:off x="1905120" y="2590920"/>
            <a:ext cx="3343320" cy="2195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mercialScript BT"/>
              </a:rPr>
              <a:t>Beati i misericordiosi,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49525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mercialScript BT"/>
              </a:rPr>
              <a:t>perché troveranno misericor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Demuider_Libano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4191120" cy="2535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slow" advTm="8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mercialScript BT"/>
              </a:rPr>
              <a:t>Beati i puri di cuore,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04960" y="44953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mercialScript BT"/>
              </a:rPr>
              <a:t>perché vedranno 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la%20messa%206" descr=""/>
          <p:cNvPicPr/>
          <p:nvPr/>
        </p:nvPicPr>
        <p:blipFill>
          <a:blip r:embed="rId1"/>
          <a:srcRect l="2196" t="1814" r="2196" b="1814"/>
          <a:stretch/>
        </p:blipFill>
        <p:spPr>
          <a:xfrm>
            <a:off x="1066680" y="2590920"/>
            <a:ext cx="1927440" cy="2352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 advTm="8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adff"/>
                </a:solidFill>
                <a:latin typeface="CommercialScript BT"/>
              </a:rPr>
              <a:t>Beati gli operatori di pace,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680" y="50292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adff"/>
                </a:solidFill>
                <a:latin typeface="CommercialScript BT"/>
              </a:rPr>
              <a:t>perché saranno chiamati figli di 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accoglienza" descr=""/>
          <p:cNvPicPr/>
          <p:nvPr/>
        </p:nvPicPr>
        <p:blipFill>
          <a:blip r:embed="rId1"/>
          <a:srcRect l="9228" t="3460" r="16918" b="3460"/>
          <a:stretch/>
        </p:blipFill>
        <p:spPr>
          <a:xfrm>
            <a:off x="3321000" y="2133720"/>
            <a:ext cx="2300400" cy="2838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p:transition spd="slow" advTm="8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mmercialScript BT"/>
              </a:rPr>
              <a:t>Beati i perseguitati  per  causa della giustizia,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52574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mercialScript BT"/>
              </a:rPr>
              <a:t>perché di essi è il regno dei ciel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Beutter_BiafraJPG" descr=""/>
          <p:cNvPicPr/>
          <p:nvPr/>
        </p:nvPicPr>
        <p:blipFill>
          <a:blip r:embed="rId1"/>
          <a:srcRect l="0" t="1942" r="0" b="0"/>
          <a:stretch/>
        </p:blipFill>
        <p:spPr>
          <a:xfrm>
            <a:off x="2438280" y="2298600"/>
            <a:ext cx="3543480" cy="225900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</p:spTree>
  </p:cSld>
  <p:transition spd="slow" advTm="8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3:17:55Z</dcterms:created>
  <dc:creator>.</dc:creator>
  <dc:description/>
  <dc:language>en-US</dc:language>
  <cp:lastModifiedBy>.</cp:lastModifiedBy>
  <dcterms:modified xsi:type="dcterms:W3CDTF">2005-04-17T12:41:19Z</dcterms:modified>
  <cp:revision>6</cp:revision>
  <dc:subject/>
  <dc:title>“Le Beatitudini”</dc:title>
</cp:coreProperties>
</file>